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FDC-75D1-404C-AF7B-C1234861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704-419D-4DAD-8844-203D467C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E3A-80AE-4FFD-BDA0-690583E2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65A-505D-4DF8-96C2-CECC62F0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DC4-1FBD-4D1F-B91B-31633312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758-64AC-4AEE-9D7D-A7D80587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2ED-168F-46B2-8291-544877DC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65A-A3F5-4096-B0C5-53B774C3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342-C1BD-44FF-92EA-D6A3569B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386-AE7D-435D-A99B-A05EDAB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2CB-14A5-4C18-B8C1-9F85C176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B87-952F-40C4-8BC2-2DDC901B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C7F5-995A-4227-9E05-5638B9325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hildDischarge9.jpg"/>
          <p:cNvPicPr/>
          <p:nvPr/>
        </p:nvPicPr>
        <p:blipFill>
          <a:blip r:embed="rId2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Discharge10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Discharge11.jpg"/>
          <p:cNvPicPr/>
          <p:nvPr/>
        </p:nvPicPr>
        <p:blipFill>
          <a:blip r:embed="rId1"/>
          <a:stretch/>
        </p:blipFill>
        <p:spPr>
          <a:xfrm>
            <a:off x="776160" y="847800"/>
            <a:ext cx="7591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Discharge12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ild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Discharge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Discharge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Discharge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Discharge4.jpg"/>
          <p:cNvPicPr/>
          <p:nvPr/>
        </p:nvPicPr>
        <p:blipFill>
          <a:blip r:embed="rId1"/>
          <a:stretch/>
        </p:blipFill>
        <p:spPr>
          <a:xfrm>
            <a:off x="776160" y="828720"/>
            <a:ext cx="75916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Discharge5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Discharge6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Discharge7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Discharge8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7:33Z</dcterms:created>
  <dc:creator>zcui</dc:creator>
  <dc:description/>
  <dc:language>en-US</dc:language>
  <cp:lastModifiedBy>rbalne</cp:lastModifiedBy>
  <dcterms:modified xsi:type="dcterms:W3CDTF">2009-08-12T13:57:22Z</dcterms:modified>
  <cp:revision>2</cp:revision>
  <dc:subject/>
  <dc:title>TRAC</dc:title>
</cp:coreProperties>
</file>